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4CB-9C33-42ED-BE66-1261A3DA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570-4957-421A-972F-D40FF378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1C2-731B-4877-BC55-A07F3CF8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7CD-0331-4FD9-90A1-B2E31D4B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306-766E-4F03-8849-12BE0C1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AB7-BDAF-48B6-B343-B10DA028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29E-C6C5-49AC-81BA-7120853B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A57-FBE3-43C0-A576-2C2CD21C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F86-4064-4DB4-921C-2F150B5C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9FC-D4FA-40A8-9A6C-A89C31A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B9A-F690-4E63-8D49-DE72E70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B61-1E5E-4E30-B8F0-71A3793A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8E6A-B79F-45E4-8503-3070C651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Image:Murray_darling_murrumbidgee_map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3564000" cy="378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360" y="476280"/>
            <a:ext cx="2160720" cy="117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he Murray Ri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3789360"/>
            <a:ext cx="34560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day, no water flows into the sea from the Murray river as it’s water levels are de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habitats, invasions of foreign plants and animals. (e.g., carp invasion causes problems with quality of water)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nity probl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0" y="4724280"/>
            <a:ext cx="22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red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crease the wate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Get the alien fish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No salinity (s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the alien fish sucking the rocks and pebbles and leav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Proposed action and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Don’t put rubbish in the Mu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ess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Fishing out the f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ll the farmers to not put mor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1:48Z</dcterms:created>
  <dc:creator>Primary School</dc:creator>
  <dc:description/>
  <dc:language>en-US</dc:language>
  <cp:lastModifiedBy>Primary School</cp:lastModifiedBy>
  <dcterms:modified xsi:type="dcterms:W3CDTF">2009-05-13T02:22:19Z</dcterms:modified>
  <cp:revision>7</cp:revision>
  <dc:subject/>
  <dc:title>Murray River</dc:title>
</cp:coreProperties>
</file>